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B853-0786-4C90-96E0-415629DE9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1874-1DCC-4534-BB7D-7F2290A7E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lot s of 12, cut up and placed on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Monday partner, choose one example, discuss what it entails mathematically and  place under appropriate 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oose another and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D268-7D57-44E2-A072-C3E772000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Monday partner, meet with another pair – Pair Square ( </a:t>
            </a:r>
            <a:r>
              <a:rPr b="0" i="1" lang="en-CA" sz="1200" spc="-1" strike="noStrike">
                <a:solidFill>
                  <a:srgbClr val="000000"/>
                </a:solidFill>
                <a:latin typeface="Arial"/>
              </a:rPr>
              <a:t>I can’t remember if this is table groups or can we do it in 4’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square will be given a set of number sense expectations for one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group, consider each expectation with respect to the Big Ideas. Sort, cut and paste the curriculum expectations and place them under the big idea your group feels they best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48A9-B5D0-47D2-B176-0FFB3C59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5CE8-E4D7-4825-9963-146EB4523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7C9D-88B6-4799-930B-B8818643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7D26-0BDD-4D51-8291-FC4B46C7F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F7C9-4417-465F-BFDB-430DA98AE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A63A-33E2-42EA-A640-DA8CE0A8E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5052-BC59-4D24-A142-804414D0E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up Ques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d you hear an interesting story that you think others would enjoy he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Describe a memorable event that you heard about or even you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Do we have someone who taught in intermediate grades prior to teaching in primary. Can you share some of the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ell us about the birth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To the person who has a medical or science degree, how has your background contributed to your teaching of children? Primar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To the person who came to Math Campp last year, what information can you share and what advice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C949-FA85-43F1-B02F-9EA017E03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Now that we know each other a bit, let’s find a partner for this evening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B468-B1B6-4F79-B527-4150304D1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436-181A-4881-82CA-DD11E5B0B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ensure that over the next few days that everyone in the group feels welcome to participate  and comfortable/ safe when they share ideas or 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ave some time, we have created a list of  basic norms that most, if not all of us have seen before. We invite you to add to the l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e will be talking a great deal this week about the big ideas of proportional reasoning. To begin this first session, we would like to take some time and consider each one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g ideas are on chart paper on the tables – 1 per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partner, read each of the big ideas and complete the statement “This big idea makes me think of ...” . Please feel free to use numbers, words and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partner, do a gallery walk to see how others have completed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4792-AC87-4658-8026-13BE5F779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47E4-BA45-467A-BF13-D1FB6A842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BCB3-0C9D-4993-9C07-8AC533999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E774C-ED3D-4DFA-90AC-743DB2FB6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5ADDA-33B8-4FB5-B2A3-E5B4DE5DA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60FC0-6FCD-4FE8-879F-480CFAEC7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005C6-0C92-4B23-9E2B-B99B8BD4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5A77E-D251-4B02-8335-E939CDC33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AC37C-A9D1-4115-9F89-169A20B6A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41882-AB40-43D1-8588-A5AA14E83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DD064-097A-4C3E-A773-A7F9DD22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3C575-FC72-4FF6-9B84-FE70B04D0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5E7F7-62A4-4F5C-A879-DDAAF438A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C5260-E2A0-4B32-AADA-2B314DEE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77E19-68C1-495C-A5FA-A294398D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BB11-C5C1-4A3D-993A-D45CEB496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4E5DF-0B44-4EDF-ABED-C8A803C6A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5DFC9-45D9-40F0-8353-C7869E982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D9718-65C4-4CB6-8E08-E8F31C228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AD4EE-B0C6-4950-82E0-3464810AA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F86F1-1B14-4D25-9A0B-7000CE2C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7036-A32F-4754-8B68-013FABA8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8032-E0D6-4B14-BB1C-6FC24ABF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2283-9F6F-488C-8F2D-151B6CD4A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53D8-20E6-4F20-91CE-E761F2791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1C911-5170-47B5-A362-E190335F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DDCE-9C70-4440-AE76-CA0D8D104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8A3A-B9D3-4181-B530-E37B40DA228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DD0B-8259-47E3-ABC9-B7BA29D92B2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54936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1</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s K - 2 Example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s for proportional reasoning look like this in grades K-2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a number has 4 in the ones column, I will land on it if I count by 2’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K-2 Curriculum</a:t>
            </a:r>
            <a:endParaRPr b="0" lang="en-US" sz="4400" spc="-1" strike="noStrike">
              <a:solidFill>
                <a:srgbClr val="0d469b"/>
              </a:solidFill>
              <a:latin typeface="Arial"/>
            </a:endParaRPr>
          </a:p>
        </p:txBody>
      </p:sp>
      <p:graphicFrame>
        <p:nvGraphicFramePr>
          <p:cNvPr id="117" name=""/>
          <p:cNvGraphicFramePr/>
          <p:nvPr/>
        </p:nvGraphicFramePr>
        <p:xfrm>
          <a:off x="2124000" y="1989000"/>
          <a:ext cx="3816360" cy="1432080"/>
        </p:xfrm>
        <a:graphic>
          <a:graphicData uri="http://schemas.openxmlformats.org/drawingml/2006/table">
            <a:tbl>
              <a:tblPr/>
              <a:tblGrid>
                <a:gridCol w="3816360"/>
              </a:tblGrid>
              <a:tr h="143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Specific Expectations</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graphicFrame>
        <p:nvGraphicFramePr>
          <p:cNvPr id="118" name=""/>
          <p:cNvGraphicFramePr/>
          <p:nvPr/>
        </p:nvGraphicFramePr>
        <p:xfrm>
          <a:off x="2268360" y="5229360"/>
          <a:ext cx="3888000" cy="1224000"/>
        </p:xfrm>
        <a:graphic>
          <a:graphicData uri="http://schemas.openxmlformats.org/drawingml/2006/table">
            <a:tbl>
              <a:tblPr/>
              <a:tblGrid>
                <a:gridCol w="3888000"/>
              </a:tblGrid>
              <a:tr h="12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Big Ideas</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19" name="Down Arrow 5"/>
          <p:cNvSpPr/>
          <p:nvPr/>
        </p:nvSpPr>
        <p:spPr>
          <a:xfrm>
            <a:off x="3635280" y="3789360"/>
            <a:ext cx="1204920" cy="977760"/>
          </a:xfrm>
          <a:prstGeom prst="downArrow">
            <a:avLst>
              <a:gd name="adj1" fmla="val 50000"/>
              <a:gd name="adj2" fmla="val 50000"/>
            </a:avLst>
          </a:prstGeom>
          <a:solidFill>
            <a:srgbClr val="000000"/>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allery Walk</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following questions as you review people’s placement of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surprises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ything that you disagree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ything that you think should be m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this look at the big ideas of number sense contribute to your understand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rly 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a:t>
            </a:r>
            <a:endParaRPr b="0" lang="en-US" sz="3200" spc="-1" strike="noStrike">
              <a:solidFill>
                <a:srgbClr val="000000"/>
              </a:solidFill>
              <a:latin typeface="Arial"/>
            </a:endParaRPr>
          </a:p>
        </p:txBody>
      </p:sp>
      <p:pic>
        <p:nvPicPr>
          <p:cNvPr id="124" name="Picture 5" descr="http://www.fotosearch.com/bthumb/IMZ/IMZ003/ubr0016.jpg"/>
          <p:cNvPicPr/>
          <p:nvPr/>
        </p:nvPicPr>
        <p:blipFill>
          <a:blip r:embed="rId1"/>
          <a:stretch/>
        </p:blipFill>
        <p:spPr>
          <a:xfrm>
            <a:off x="5508720" y="400536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6" name=""/>
          <p:cNvSpPr txBox="1"/>
          <p:nvPr/>
        </p:nvSpPr>
        <p:spPr>
          <a:xfrm>
            <a:off x="457200" y="213372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w understandings do you have with respect to the connections between number sense K-2 and proportional reasoning in future gra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9" descr="http://www.fotosearch.com/bthumb/CSP/CSP237/k2377125.jpg"/>
          <p:cNvPicPr/>
          <p:nvPr/>
        </p:nvPicPr>
        <p:blipFill>
          <a:blip r:embed="rId1"/>
          <a:stretch/>
        </p:blipFill>
        <p:spPr>
          <a:xfrm>
            <a:off x="3132000" y="4437000"/>
            <a:ext cx="2009880" cy="15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s your thinking/ understanding shif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es, what changes have occurred for you?</a:t>
            </a:r>
            <a:endParaRPr b="0" lang="en-US" sz="3200" spc="-1" strike="noStrike">
              <a:solidFill>
                <a:srgbClr val="000000"/>
              </a:solidFill>
              <a:latin typeface="Arial"/>
            </a:endParaRPr>
          </a:p>
        </p:txBody>
      </p:sp>
      <p:pic>
        <p:nvPicPr>
          <p:cNvPr id="130" name="Picture 5" descr="http://www.fotosearch.com/bthumb/CSP/CSP318/k3180412.jpg"/>
          <p:cNvPicPr/>
          <p:nvPr/>
        </p:nvPicPr>
        <p:blipFill>
          <a:blip r:embed="rId1"/>
          <a:stretch/>
        </p:blipFill>
        <p:spPr>
          <a:xfrm>
            <a:off x="3492360" y="4149720"/>
            <a:ext cx="1943280" cy="146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eedback</a:t>
            </a:r>
            <a:endParaRPr b="0" lang="en-US" sz="4400" spc="-1" strike="noStrike">
              <a:solidFill>
                <a:srgbClr val="0d469b"/>
              </a:solidFill>
              <a:latin typeface="Arial"/>
            </a:endParaRPr>
          </a:p>
        </p:txBody>
      </p:sp>
      <p:sp>
        <p:nvSpPr>
          <p:cNvPr id="132" name=""/>
          <p:cNvSpPr txBox="1"/>
          <p:nvPr/>
        </p:nvSpPr>
        <p:spPr>
          <a:xfrm>
            <a:off x="457200" y="2349000"/>
            <a:ext cx="8229600" cy="4280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quared with your thinking</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aked your curiosit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ircling in your mi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http://www.fotosearch.com/bthumb/UNC/UNC136/u13955836.jpg"/>
          <p:cNvPicPr/>
          <p:nvPr/>
        </p:nvPicPr>
        <p:blipFill>
          <a:blip r:embed="rId1"/>
          <a:stretch/>
        </p:blipFill>
        <p:spPr>
          <a:xfrm>
            <a:off x="6875640" y="4149720"/>
            <a:ext cx="1074600" cy="1276200"/>
          </a:xfrm>
          <a:prstGeom prst="rect">
            <a:avLst/>
          </a:prstGeom>
          <a:ln w="57240">
            <a:solidFill>
              <a:srgbClr val="000000"/>
            </a:solidFill>
            <a:miter/>
          </a:ln>
        </p:spPr>
      </p:pic>
      <p:pic>
        <p:nvPicPr>
          <p:cNvPr id="134" name="Picture 7" descr="http://www.fotosearch.com/bthumb/ARP/ARP112/Tile_18.jpg"/>
          <p:cNvPicPr/>
          <p:nvPr/>
        </p:nvPicPr>
        <p:blipFill>
          <a:blip r:embed="rId2"/>
          <a:stretch/>
        </p:blipFill>
        <p:spPr>
          <a:xfrm>
            <a:off x="826920" y="2205000"/>
            <a:ext cx="1187640" cy="1187640"/>
          </a:xfrm>
          <a:prstGeom prst="rect">
            <a:avLst/>
          </a:prstGeom>
          <a:ln w="38160">
            <a:solidFill>
              <a:srgbClr val="000000"/>
            </a:solidFill>
            <a:miter/>
          </a:ln>
        </p:spPr>
      </p:pic>
      <p:pic>
        <p:nvPicPr>
          <p:cNvPr id="135" name="Picture 9" descr="http://www.fotosearch.com/bthumb/CSP/CSP394/k3948769.jpg"/>
          <p:cNvPicPr/>
          <p:nvPr/>
        </p:nvPicPr>
        <p:blipFill>
          <a:blip r:embed="rId3"/>
          <a:stretch/>
        </p:blipFill>
        <p:spPr>
          <a:xfrm>
            <a:off x="4643280" y="3500280"/>
            <a:ext cx="971640" cy="971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and Introduction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 Boar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attending Math CamPPP</a:t>
            </a:r>
            <a:endParaRPr b="0" lang="en-US" sz="3600" spc="-1" strike="noStrike">
              <a:solidFill>
                <a:srgbClr val="000000"/>
              </a:solidFill>
              <a:latin typeface="Arial"/>
            </a:endParaRPr>
          </a:p>
        </p:txBody>
      </p:sp>
      <p:pic>
        <p:nvPicPr>
          <p:cNvPr id="95" name="Picture 5" descr="http://www.fotosearch.com/bthumb/ARP/ARP116/Mask11_C.jpg"/>
          <p:cNvPicPr/>
          <p:nvPr/>
        </p:nvPicPr>
        <p:blipFill>
          <a:blip r:embed="rId1"/>
          <a:stretch/>
        </p:blipFill>
        <p:spPr>
          <a:xfrm>
            <a:off x="4932360" y="2421000"/>
            <a:ext cx="1440000" cy="23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eople Hunt</a:t>
            </a:r>
            <a:endParaRPr b="0" lang="en-US" sz="44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5" descr="http://www.fotosearch.com/bthumb/CSP/CSP050/k0503734.jpg"/>
          <p:cNvPicPr/>
          <p:nvPr/>
        </p:nvPicPr>
        <p:blipFill>
          <a:blip r:embed="rId1"/>
          <a:stretch/>
        </p:blipFill>
        <p:spPr>
          <a:xfrm>
            <a:off x="2627280" y="2637000"/>
            <a:ext cx="3600360" cy="271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Monday Partner</a:t>
            </a:r>
            <a:endParaRPr b="0" lang="en-US" sz="4400" spc="-1" strike="noStrike">
              <a:solidFill>
                <a:srgbClr val="0d469b"/>
              </a:solidFill>
              <a:latin typeface="Arial"/>
            </a:endParaRPr>
          </a:p>
        </p:txBody>
      </p:sp>
      <p:sp>
        <p:nvSpPr>
          <p:cNvPr id="100" name=""/>
          <p:cNvSpPr txBox="1"/>
          <p:nvPr/>
        </p:nvSpPr>
        <p:spPr>
          <a:xfrm>
            <a:off x="456840" y="1904760"/>
            <a:ext cx="84358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for someo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excited to be here (for whatever rea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t you don’t know very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aller than you</a:t>
            </a:r>
            <a:endParaRPr b="0" lang="en-US" sz="3200" spc="-1" strike="noStrike">
              <a:solidFill>
                <a:srgbClr val="000000"/>
              </a:solidFill>
              <a:latin typeface="Arial"/>
            </a:endParaRPr>
          </a:p>
        </p:txBody>
      </p:sp>
      <p:pic>
        <p:nvPicPr>
          <p:cNvPr id="101" name="Picture 2" descr="http://www.fotosearch.com/bthumb/ARP/ARP124/f2_face01.jpg"/>
          <p:cNvPicPr/>
          <p:nvPr/>
        </p:nvPicPr>
        <p:blipFill>
          <a:blip r:embed="rId1"/>
          <a:stretch/>
        </p:blipFill>
        <p:spPr>
          <a:xfrm>
            <a:off x="5580000" y="3789360"/>
            <a:ext cx="1763640" cy="26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03"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2696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7 Principles of Fierce Conversations</a:t>
            </a:r>
            <a:endParaRPr b="0" lang="en-US" sz="3200" spc="-1" strike="noStrike">
              <a:solidFill>
                <a:srgbClr val="0d469b"/>
              </a:solidFill>
              <a:latin typeface="Arial"/>
            </a:endParaRPr>
          </a:p>
        </p:txBody>
      </p:sp>
      <p:sp>
        <p:nvSpPr>
          <p:cNvPr id="105" name="PlaceHolder 2"/>
          <p:cNvSpPr>
            <a:spLocks noGrp="1"/>
          </p:cNvSpPr>
          <p:nvPr>
            <p:ph/>
          </p:nvPr>
        </p:nvSpPr>
        <p:spPr>
          <a:xfrm>
            <a:off x="456840" y="1600200"/>
            <a:ext cx="8077320" cy="48736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6"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big idea makes me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nk of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         </a:t>
            </a:r>
            <a:r>
              <a:rPr b="0" lang="en-CA" sz="4400" spc="-1" strike="noStrike">
                <a:solidFill>
                  <a:srgbClr val="0d469b"/>
                </a:solidFill>
                <a:latin typeface="Arial"/>
              </a:rPr>
              <a:t>Race for Red</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a partner at your table, play Version 1 and 2 of this gam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rough Version 3 and discuss how it is differ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game was the easiest to p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uch did you have to roll in each game to get a blue counter?</a:t>
            </a:r>
            <a:endParaRPr b="0" lang="en-US" sz="3200" spc="-1" strike="noStrike">
              <a:solidFill>
                <a:srgbClr val="000000"/>
              </a:solidFill>
              <a:latin typeface="Arial"/>
            </a:endParaRPr>
          </a:p>
        </p:txBody>
      </p:sp>
      <p:pic>
        <p:nvPicPr>
          <p:cNvPr id="111" name="Picture 5" descr="http://www.fotosearch.com/bthumb/ARP/ARP123/fr_rng_c.jpg"/>
          <p:cNvPicPr/>
          <p:nvPr/>
        </p:nvPicPr>
        <p:blipFill>
          <a:blip r:embed="rId1"/>
          <a:stretch/>
        </p:blipFill>
        <p:spPr>
          <a:xfrm>
            <a:off x="755640" y="692280"/>
            <a:ext cx="1077840" cy="115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ersion 3</a:t>
            </a:r>
            <a:endParaRPr b="0" lang="en-US" sz="4400" spc="-1" strike="noStrike">
              <a:solidFill>
                <a:srgbClr val="0d469b"/>
              </a:solidFill>
              <a:latin typeface="Arial"/>
            </a:endParaRPr>
          </a:p>
        </p:txBody>
      </p:sp>
      <p:pic>
        <p:nvPicPr>
          <p:cNvPr id="113"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5T20:39:54Z</dcterms:modified>
  <cp:revision>139</cp:revision>
  <dc:subject/>
  <dc:title>Slide 1</dc:title>
</cp:coreProperties>
</file>